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F0E1-82F8-4C13-A5A1-9FC2365C4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84A5-43B0-4653-999C-7390FFEAB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5D22-4170-4158-9831-CC0D2ED66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F54E-6AB3-4168-821B-B33A00194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7A30-5D33-48C9-8436-A43217573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170C-54F2-4A8D-B26A-01F1D312B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DFBD-82FB-43CA-9499-F1B968C0F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DCCE-22AE-41F9-8AAF-638306038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6016-49AC-4497-B91F-E1F6CFE98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F936-8810-461B-8FD6-96938C753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673E-9C25-4AEF-813E-4D4E4953D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6B76-E637-4929-A20A-FC641CB32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B7F8-03DE-4C21-873C-F6A6606BA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2633-C018-4126-978B-88B658140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F1F4-2E25-443C-8DFA-5064BDED3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ECE1-029D-44BD-B4FE-1A3DD7CDD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6A32-6A27-41BC-B3CD-A52252C10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49DC-D1BE-483B-A1EB-BE47324D4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3D81-E824-4266-9904-FEA5CB279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654D-1ABC-41E5-AD4C-1EFE1697B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F729-08A6-40A4-AAFB-C2D1D8C56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05AD-82F5-42FF-9A9B-7CA230B10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EB60-A332-4DF4-B8C7-1B12F6433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B3C6-1F28-485C-8B63-5F2FC6D1A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9DAC-EFBB-4898-8F2C-F7ECE657B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7E6E-B776-457D-8FEB-DB385E1CE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8DD9-CACA-4C13-9FE1-522BB6D8C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8B7E-92B3-433B-AE3E-B0A3978C3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606D-463D-4190-9928-294F6B775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3AD6-C6C5-4751-9662-1F4A8C5D4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30DA-3BC4-44CE-B043-B7A06E8FC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F617-B57A-495F-8A49-9256EA363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9A95-0073-4819-9AC0-DADF972E7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036C-8721-4907-85C4-CEF454C39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251B-B011-463C-AB82-FCEB3B44A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1D96-39AC-4AED-9452-CAB1F3AA8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C87F-E2AF-4480-9684-DCA2B11F4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18D9-68D8-4392-A3D6-A05A23793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E073-8D9C-4D14-8973-94DE0A3FD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716B-653A-45B5-9E57-DCD715682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05C7-00E1-4937-9D03-8963B9C94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C635-D61E-4629-A693-4FEB290E6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738B-B4B0-4BC9-9020-193174707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79C2-2BA3-46CD-B699-6AE1A6487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48F3-122E-4E1D-A4ED-3A536F665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7BDE-83A0-4894-9C22-432D053F6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3E90-AEAC-49E3-BF8B-7F24F69EA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1768-5FB3-4957-BF48-860D272DF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60FA-CF4F-46CE-8644-DB96B4E9F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6E5D-2029-4D5E-B47F-34BC3289E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3C57-1577-42CD-BE7B-FB23AC0F0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D449-4705-428F-9C1C-24DD57E21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B7C9-F2B7-4C59-8A49-3D6E69320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BE4F-320E-45AF-969E-EDA46CBD9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6463-7CA5-478A-8970-74BAE97F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945C-915B-44E0-8A43-62971532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5709-B76B-4EEF-B6E9-C76DA7D3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6AD7-DA8E-4544-8ABA-F0716E11D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C802-45C6-4E59-B8B4-C13B74EA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071D-399A-4C83-80FF-9C6EED8E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4927-C193-4F3F-9F43-64EF8D06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1DA1-F9C3-499F-B8CC-85766E3D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826F-4929-40C4-9AC7-3B7A74CE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656A-2DBC-405B-A864-8E0D12E2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2185-B13E-4734-A9C7-1416C789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6422-B1D8-4814-8D0C-A15EA4D4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13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  <a:p>
            <a:pPr lvl="1" marL="482760" indent="-185760">
              <a:spcBef>
                <a:spcPts val="134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  <a:p>
            <a:pPr lvl="2" marL="742680" indent="-148320">
              <a:spcBef>
                <a:spcPts val="13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  <a:p>
            <a:pPr lvl="3" marL="1040040" indent="-148320">
              <a:spcBef>
                <a:spcPts val="134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  <a:p>
            <a:pPr lvl="4" marL="1337040" indent="-148320">
              <a:spcBef>
                <a:spcPts val="1349"/>
              </a:spcBef>
              <a:buClr>
                <a:srgbClr val="ffff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  <a:p>
            <a:pPr lvl="5" marL="1337040" indent="-148320">
              <a:spcBef>
                <a:spcPts val="1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  <a:p>
            <a:pPr lvl="6" marL="1337040" indent="-148320">
              <a:spcBef>
                <a:spcPts val="1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F5C2-1504-4E00-82B5-B50B34CF4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9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11.xml"/><Relationship Id="rId14" Type="http://schemas.openxmlformats.org/officeDocument/2006/relationships/slide" Target="slide11.xml"/><Relationship Id="rId15" Type="http://schemas.openxmlformats.org/officeDocument/2006/relationships/slide" Target="slide11.xml"/><Relationship Id="rId16" Type="http://schemas.openxmlformats.org/officeDocument/2006/relationships/slide" Target="slide28.xml"/><Relationship Id="rId17" Type="http://schemas.openxmlformats.org/officeDocument/2006/relationships/slide" Target="slide28.xml"/><Relationship Id="rId18" Type="http://schemas.openxmlformats.org/officeDocument/2006/relationships/slide" Target="slide28.xml"/><Relationship Id="rId19" Type="http://schemas.openxmlformats.org/officeDocument/2006/relationships/slide" Target="slide26.xml"/><Relationship Id="rId20" Type="http://schemas.openxmlformats.org/officeDocument/2006/relationships/slide" Target="slide26.xml"/><Relationship Id="rId21" Type="http://schemas.openxmlformats.org/officeDocument/2006/relationships/slide" Target="slide26.xml"/><Relationship Id="rId22" Type="http://schemas.openxmlformats.org/officeDocument/2006/relationships/slide" Target="slide24.xml"/><Relationship Id="rId23" Type="http://schemas.openxmlformats.org/officeDocument/2006/relationships/slide" Target="slide24.xml"/><Relationship Id="rId24" Type="http://schemas.openxmlformats.org/officeDocument/2006/relationships/slide" Target="slide24.xml"/><Relationship Id="rId25" Type="http://schemas.openxmlformats.org/officeDocument/2006/relationships/slide" Target="slide42.xml"/><Relationship Id="rId26" Type="http://schemas.openxmlformats.org/officeDocument/2006/relationships/slide" Target="slide42.xml"/><Relationship Id="rId27" Type="http://schemas.openxmlformats.org/officeDocument/2006/relationships/slide" Target="slide42.xml"/><Relationship Id="rId28" Type="http://schemas.openxmlformats.org/officeDocument/2006/relationships/slide" Target="slide40.xml"/><Relationship Id="rId29" Type="http://schemas.openxmlformats.org/officeDocument/2006/relationships/slide" Target="slide40.xml"/><Relationship Id="rId30" Type="http://schemas.openxmlformats.org/officeDocument/2006/relationships/slide" Target="slide40.xml"/><Relationship Id="rId31" Type="http://schemas.openxmlformats.org/officeDocument/2006/relationships/slide" Target="slide38.xml"/><Relationship Id="rId32" Type="http://schemas.openxmlformats.org/officeDocument/2006/relationships/slide" Target="slide38.xml"/><Relationship Id="rId33" Type="http://schemas.openxmlformats.org/officeDocument/2006/relationships/slide" Target="slide38.xml"/><Relationship Id="rId34" Type="http://schemas.openxmlformats.org/officeDocument/2006/relationships/slide" Target="slide36.xml"/><Relationship Id="rId35" Type="http://schemas.openxmlformats.org/officeDocument/2006/relationships/slide" Target="slide36.xml"/><Relationship Id="rId36" Type="http://schemas.openxmlformats.org/officeDocument/2006/relationships/slide" Target="slide36.xml"/><Relationship Id="rId37" Type="http://schemas.openxmlformats.org/officeDocument/2006/relationships/slide" Target="slide34.xml"/><Relationship Id="rId38" Type="http://schemas.openxmlformats.org/officeDocument/2006/relationships/slide" Target="slide34.xml"/><Relationship Id="rId39" Type="http://schemas.openxmlformats.org/officeDocument/2006/relationships/slide" Target="slide34.xml"/><Relationship Id="rId40" Type="http://schemas.openxmlformats.org/officeDocument/2006/relationships/slide" Target="slide52.xml"/><Relationship Id="rId41" Type="http://schemas.openxmlformats.org/officeDocument/2006/relationships/slide" Target="slide52.xml"/><Relationship Id="rId42" Type="http://schemas.openxmlformats.org/officeDocument/2006/relationships/slide" Target="slide52.xml"/><Relationship Id="rId43" Type="http://schemas.openxmlformats.org/officeDocument/2006/relationships/slide" Target="slide50.xml"/><Relationship Id="rId44" Type="http://schemas.openxmlformats.org/officeDocument/2006/relationships/slide" Target="slide50.xml"/><Relationship Id="rId45" Type="http://schemas.openxmlformats.org/officeDocument/2006/relationships/slide" Target="slide50.xml"/><Relationship Id="rId46" Type="http://schemas.openxmlformats.org/officeDocument/2006/relationships/slide" Target="slide48.xml"/><Relationship Id="rId47" Type="http://schemas.openxmlformats.org/officeDocument/2006/relationships/slide" Target="slide48.xml"/><Relationship Id="rId48" Type="http://schemas.openxmlformats.org/officeDocument/2006/relationships/slide" Target="slide48.xml"/><Relationship Id="rId49" Type="http://schemas.openxmlformats.org/officeDocument/2006/relationships/slide" Target="slide46.xml"/><Relationship Id="rId50" Type="http://schemas.openxmlformats.org/officeDocument/2006/relationships/slide" Target="slide46.xml"/><Relationship Id="rId51" Type="http://schemas.openxmlformats.org/officeDocument/2006/relationships/slide" Target="slide46.xml"/><Relationship Id="rId52" Type="http://schemas.openxmlformats.org/officeDocument/2006/relationships/slide" Target="slide44.xml"/><Relationship Id="rId53" Type="http://schemas.openxmlformats.org/officeDocument/2006/relationships/slide" Target="slide44.xml"/><Relationship Id="rId54" Type="http://schemas.openxmlformats.org/officeDocument/2006/relationships/slide" Target="slide44.xml"/><Relationship Id="rId55" Type="http://schemas.openxmlformats.org/officeDocument/2006/relationships/slide" Target="slide13.xml"/><Relationship Id="rId56" Type="http://schemas.openxmlformats.org/officeDocument/2006/relationships/slide" Target="slide13.xml"/><Relationship Id="rId57" Type="http://schemas.openxmlformats.org/officeDocument/2006/relationships/slide" Target="slide15.xml"/><Relationship Id="rId58" Type="http://schemas.openxmlformats.org/officeDocument/2006/relationships/slide" Target="slide15.xml"/><Relationship Id="rId59" Type="http://schemas.openxmlformats.org/officeDocument/2006/relationships/slide" Target="slide15.xml"/><Relationship Id="rId60" Type="http://schemas.openxmlformats.org/officeDocument/2006/relationships/slide" Target="slide20.xml"/><Relationship Id="rId61" Type="http://schemas.openxmlformats.org/officeDocument/2006/relationships/slide" Target="slide20.xml"/><Relationship Id="rId62" Type="http://schemas.openxmlformats.org/officeDocument/2006/relationships/slide" Target="slide20.xml"/><Relationship Id="rId63" Type="http://schemas.openxmlformats.org/officeDocument/2006/relationships/slide" Target="slide22.xml"/><Relationship Id="rId64" Type="http://schemas.openxmlformats.org/officeDocument/2006/relationships/slide" Target="slide22.xml"/><Relationship Id="rId65" Type="http://schemas.openxmlformats.org/officeDocument/2006/relationships/slide" Target="slide22.xml"/><Relationship Id="rId66" Type="http://schemas.openxmlformats.org/officeDocument/2006/relationships/slide" Target="slide32.xml"/><Relationship Id="rId67" Type="http://schemas.openxmlformats.org/officeDocument/2006/relationships/slide" Target="slide32.xml"/><Relationship Id="rId68" Type="http://schemas.openxmlformats.org/officeDocument/2006/relationships/slide" Target="slide32.xml"/><Relationship Id="rId69" Type="http://schemas.openxmlformats.org/officeDocument/2006/relationships/slide" Target="slide30.xml"/><Relationship Id="rId70" Type="http://schemas.openxmlformats.org/officeDocument/2006/relationships/slide" Target="slide30.xml"/><Relationship Id="rId71" Type="http://schemas.openxmlformats.org/officeDocument/2006/relationships/slide" Target="slide30.xml"/><Relationship Id="rId72" Type="http://schemas.openxmlformats.org/officeDocument/2006/relationships/slide" Target="slide18.xml"/><Relationship Id="rId73" Type="http://schemas.openxmlformats.org/officeDocument/2006/relationships/slide" Target="slide18.xml"/><Relationship Id="rId74" Type="http://schemas.openxmlformats.org/officeDocument/2006/relationships/slide" Target="slide18.xml"/><Relationship Id="rId75" Type="http://schemas.openxmlformats.org/officeDocument/2006/relationships/slide" Target="slide53.xml"/><Relationship Id="rId76" Type="http://schemas.openxmlformats.org/officeDocument/2006/relationships/slideLayout" Target="../slideLayouts/slideLayout1.xml"/><Relationship Id="rId7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/>
          <p:cNvSpPr/>
          <p:nvPr/>
        </p:nvSpPr>
        <p:spPr>
          <a:xfrm>
            <a:off x="0" y="0"/>
            <a:ext cx="1676520" cy="1600200"/>
          </a:xfrm>
          <a:custGeom>
            <a:avLst/>
            <a:gdLst>
              <a:gd name="textAreaLeft" fmla="*/ 103680 w 1676520"/>
              <a:gd name="textAreaRight" fmla="*/ 1572840 w 167652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2630" h="21600">
                <a:moveTo>
                  <a:pt x="0" y="0"/>
                </a:moveTo>
                <a:lnTo>
                  <a:pt x="22630" y="0"/>
                </a:lnTo>
                <a:lnTo>
                  <a:pt x="22630" y="21600"/>
                </a:lnTo>
                <a:lnTo>
                  <a:pt x="0" y="21600"/>
                </a:lnTo>
                <a:close/>
              </a:path>
              <a:path fill="lightenLess" w="22630" h="21600">
                <a:moveTo>
                  <a:pt x="0" y="0"/>
                </a:moveTo>
                <a:lnTo>
                  <a:pt x="22630" y="0"/>
                </a:lnTo>
                <a:lnTo>
                  <a:pt x="21230" y="1400"/>
                </a:lnTo>
                <a:lnTo>
                  <a:pt x="1400" y="1400"/>
                </a:lnTo>
                <a:close/>
              </a:path>
              <a:path fill="darken" w="22630" h="21600">
                <a:moveTo>
                  <a:pt x="22630" y="0"/>
                </a:moveTo>
                <a:lnTo>
                  <a:pt x="22630" y="21600"/>
                </a:lnTo>
                <a:lnTo>
                  <a:pt x="21230" y="20200"/>
                </a:lnTo>
                <a:lnTo>
                  <a:pt x="21230" y="1400"/>
                </a:lnTo>
                <a:close/>
              </a:path>
              <a:path fill="darkenLess" w="22630" h="21600">
                <a:moveTo>
                  <a:pt x="22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0" y="20200"/>
                </a:lnTo>
                <a:close/>
              </a:path>
              <a:path fill="lighten" w="22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5638680" y="0"/>
            <a:ext cx="1673280" cy="1600200"/>
          </a:xfrm>
          <a:custGeom>
            <a:avLst/>
            <a:gdLst>
              <a:gd name="textAreaLeft" fmla="*/ 103680 w 1673280"/>
              <a:gd name="textAreaRight" fmla="*/ 1569600 w 167328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2586" h="21600">
                <a:moveTo>
                  <a:pt x="0" y="0"/>
                </a:moveTo>
                <a:lnTo>
                  <a:pt x="22586" y="0"/>
                </a:lnTo>
                <a:lnTo>
                  <a:pt x="22586" y="21600"/>
                </a:lnTo>
                <a:lnTo>
                  <a:pt x="0" y="21600"/>
                </a:lnTo>
                <a:close/>
              </a:path>
              <a:path fill="lightenLess" w="22586" h="21600">
                <a:moveTo>
                  <a:pt x="0" y="0"/>
                </a:moveTo>
                <a:lnTo>
                  <a:pt x="22586" y="0"/>
                </a:lnTo>
                <a:lnTo>
                  <a:pt x="21186" y="1400"/>
                </a:lnTo>
                <a:lnTo>
                  <a:pt x="1400" y="1400"/>
                </a:lnTo>
                <a:close/>
              </a:path>
              <a:path fill="darken" w="22586" h="21600">
                <a:moveTo>
                  <a:pt x="22586" y="0"/>
                </a:moveTo>
                <a:lnTo>
                  <a:pt x="22586" y="21600"/>
                </a:lnTo>
                <a:lnTo>
                  <a:pt x="21186" y="20200"/>
                </a:lnTo>
                <a:lnTo>
                  <a:pt x="21186" y="1400"/>
                </a:lnTo>
                <a:close/>
              </a:path>
              <a:path fill="darkenLess" w="22586" h="21600">
                <a:moveTo>
                  <a:pt x="225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86" y="20200"/>
                </a:lnTo>
                <a:close/>
              </a:path>
              <a:path fill="lighten" w="225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mal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3809880" y="0"/>
            <a:ext cx="1673280" cy="1600200"/>
          </a:xfrm>
          <a:custGeom>
            <a:avLst/>
            <a:gdLst>
              <a:gd name="textAreaLeft" fmla="*/ 103680 w 1673280"/>
              <a:gd name="textAreaRight" fmla="*/ 1569600 w 167328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2586" h="21600">
                <a:moveTo>
                  <a:pt x="0" y="0"/>
                </a:moveTo>
                <a:lnTo>
                  <a:pt x="22586" y="0"/>
                </a:lnTo>
                <a:lnTo>
                  <a:pt x="22586" y="21600"/>
                </a:lnTo>
                <a:lnTo>
                  <a:pt x="0" y="21600"/>
                </a:lnTo>
                <a:close/>
              </a:path>
              <a:path fill="lightenLess" w="22586" h="21600">
                <a:moveTo>
                  <a:pt x="0" y="0"/>
                </a:moveTo>
                <a:lnTo>
                  <a:pt x="22586" y="0"/>
                </a:lnTo>
                <a:lnTo>
                  <a:pt x="21186" y="1400"/>
                </a:lnTo>
                <a:lnTo>
                  <a:pt x="1400" y="1400"/>
                </a:lnTo>
                <a:close/>
              </a:path>
              <a:path fill="darken" w="22586" h="21600">
                <a:moveTo>
                  <a:pt x="22586" y="0"/>
                </a:moveTo>
                <a:lnTo>
                  <a:pt x="22586" y="21600"/>
                </a:lnTo>
                <a:lnTo>
                  <a:pt x="21186" y="20200"/>
                </a:lnTo>
                <a:lnTo>
                  <a:pt x="21186" y="1400"/>
                </a:lnTo>
                <a:close/>
              </a:path>
              <a:path fill="darkenLess" w="22586" h="21600">
                <a:moveTo>
                  <a:pt x="225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86" y="20200"/>
                </a:lnTo>
                <a:close/>
              </a:path>
              <a:path fill="lighten" w="225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nd and Fo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7470720" y="0"/>
            <a:ext cx="1673280" cy="1600200"/>
          </a:xfrm>
          <a:custGeom>
            <a:avLst/>
            <a:gdLst>
              <a:gd name="textAreaLeft" fmla="*/ 103680 w 1673280"/>
              <a:gd name="textAreaRight" fmla="*/ 1569600 w 167328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2586" h="21600">
                <a:moveTo>
                  <a:pt x="0" y="0"/>
                </a:moveTo>
                <a:lnTo>
                  <a:pt x="22586" y="0"/>
                </a:lnTo>
                <a:lnTo>
                  <a:pt x="22586" y="21600"/>
                </a:lnTo>
                <a:lnTo>
                  <a:pt x="0" y="21600"/>
                </a:lnTo>
                <a:close/>
              </a:path>
              <a:path fill="lightenLess" w="22586" h="21600">
                <a:moveTo>
                  <a:pt x="0" y="0"/>
                </a:moveTo>
                <a:lnTo>
                  <a:pt x="22586" y="0"/>
                </a:lnTo>
                <a:lnTo>
                  <a:pt x="21186" y="1400"/>
                </a:lnTo>
                <a:lnTo>
                  <a:pt x="1400" y="1400"/>
                </a:lnTo>
                <a:close/>
              </a:path>
              <a:path fill="darken" w="22586" h="21600">
                <a:moveTo>
                  <a:pt x="22586" y="0"/>
                </a:moveTo>
                <a:lnTo>
                  <a:pt x="22586" y="21600"/>
                </a:lnTo>
                <a:lnTo>
                  <a:pt x="21186" y="20200"/>
                </a:lnTo>
                <a:lnTo>
                  <a:pt x="21186" y="1400"/>
                </a:lnTo>
                <a:close/>
              </a:path>
              <a:path fill="darkenLess" w="22586" h="21600">
                <a:moveTo>
                  <a:pt x="225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86" y="20200"/>
                </a:lnTo>
                <a:close/>
              </a:path>
              <a:path fill="lighten" w="225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st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8"/>
          <p:cNvSpPr/>
          <p:nvPr/>
        </p:nvSpPr>
        <p:spPr>
          <a:xfrm>
            <a:off x="1905120" y="0"/>
            <a:ext cx="1673280" cy="1600200"/>
          </a:xfrm>
          <a:custGeom>
            <a:avLst/>
            <a:gdLst>
              <a:gd name="textAreaLeft" fmla="*/ 103680 w 1673280"/>
              <a:gd name="textAreaRight" fmla="*/ 1569600 w 167328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2586" h="21600">
                <a:moveTo>
                  <a:pt x="0" y="0"/>
                </a:moveTo>
                <a:lnTo>
                  <a:pt x="22586" y="0"/>
                </a:lnTo>
                <a:lnTo>
                  <a:pt x="22586" y="21600"/>
                </a:lnTo>
                <a:lnTo>
                  <a:pt x="0" y="21600"/>
                </a:lnTo>
                <a:close/>
              </a:path>
              <a:path fill="lightenLess" w="22586" h="21600">
                <a:moveTo>
                  <a:pt x="0" y="0"/>
                </a:moveTo>
                <a:lnTo>
                  <a:pt x="22586" y="0"/>
                </a:lnTo>
                <a:lnTo>
                  <a:pt x="21186" y="1400"/>
                </a:lnTo>
                <a:lnTo>
                  <a:pt x="1400" y="1400"/>
                </a:lnTo>
                <a:close/>
              </a:path>
              <a:path fill="darken" w="22586" h="21600">
                <a:moveTo>
                  <a:pt x="22586" y="0"/>
                </a:moveTo>
                <a:lnTo>
                  <a:pt x="22586" y="21600"/>
                </a:lnTo>
                <a:lnTo>
                  <a:pt x="21186" y="20200"/>
                </a:lnTo>
                <a:lnTo>
                  <a:pt x="21186" y="1400"/>
                </a:lnTo>
                <a:close/>
              </a:path>
              <a:path fill="darkenLess" w="22586" h="21600">
                <a:moveTo>
                  <a:pt x="225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86" y="20200"/>
                </a:lnTo>
                <a:close/>
              </a:path>
              <a:path fill="lighten" w="225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9">
            <a:hlinkClick r:id="rId1" action="ppaction://hlinksldjump"/>
          </p:cNvPr>
          <p:cNvSpPr/>
          <p:nvPr/>
        </p:nvSpPr>
        <p:spPr>
          <a:xfrm>
            <a:off x="0" y="160020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>
            <a:hlinkClick r:id="rId4" action="ppaction://hlinksldjump"/>
          </p:cNvPr>
          <p:cNvSpPr/>
          <p:nvPr/>
        </p:nvSpPr>
        <p:spPr>
          <a:xfrm>
            <a:off x="0" y="26668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1">
            <a:hlinkClick r:id="rId7" action="ppaction://hlinksldjump"/>
          </p:cNvPr>
          <p:cNvSpPr/>
          <p:nvPr/>
        </p:nvSpPr>
        <p:spPr>
          <a:xfrm>
            <a:off x="0" y="3733920"/>
            <a:ext cx="1676520" cy="99036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60" h="21600">
                <a:moveTo>
                  <a:pt x="0" y="0"/>
                </a:moveTo>
                <a:lnTo>
                  <a:pt x="36560" y="0"/>
                </a:lnTo>
                <a:lnTo>
                  <a:pt x="36560" y="21600"/>
                </a:lnTo>
                <a:lnTo>
                  <a:pt x="0" y="21600"/>
                </a:lnTo>
                <a:close/>
              </a:path>
              <a:path fill="lightenLess" w="36560" h="21600">
                <a:moveTo>
                  <a:pt x="0" y="0"/>
                </a:moveTo>
                <a:lnTo>
                  <a:pt x="36560" y="0"/>
                </a:lnTo>
                <a:lnTo>
                  <a:pt x="35160" y="1400"/>
                </a:lnTo>
                <a:lnTo>
                  <a:pt x="1400" y="1400"/>
                </a:lnTo>
                <a:close/>
              </a:path>
              <a:path fill="darken" w="36560" h="21600">
                <a:moveTo>
                  <a:pt x="36560" y="0"/>
                </a:moveTo>
                <a:lnTo>
                  <a:pt x="36560" y="21600"/>
                </a:lnTo>
                <a:lnTo>
                  <a:pt x="35160" y="20200"/>
                </a:lnTo>
                <a:lnTo>
                  <a:pt x="35160" y="1400"/>
                </a:lnTo>
                <a:close/>
              </a:path>
              <a:path fill="darkenLess" w="36560" h="21600">
                <a:moveTo>
                  <a:pt x="36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0" y="20200"/>
                </a:lnTo>
                <a:close/>
              </a:path>
              <a:path fill="lighten" w="36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2">
            <a:hlinkClick r:id="rId10" action="ppaction://hlinksldjump"/>
          </p:cNvPr>
          <p:cNvSpPr/>
          <p:nvPr/>
        </p:nvSpPr>
        <p:spPr>
          <a:xfrm>
            <a:off x="0" y="480060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3">
            <a:hlinkClick r:id="rId13" action="ppaction://hlinksldjump"/>
          </p:cNvPr>
          <p:cNvSpPr/>
          <p:nvPr/>
        </p:nvSpPr>
        <p:spPr>
          <a:xfrm>
            <a:off x="0" y="58672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4">
            <a:hlinkClick r:id="rId16" action="ppaction://hlinksldjump"/>
          </p:cNvPr>
          <p:cNvSpPr/>
          <p:nvPr/>
        </p:nvSpPr>
        <p:spPr>
          <a:xfrm>
            <a:off x="3809880" y="3733920"/>
            <a:ext cx="1676520" cy="99036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60" h="21600">
                <a:moveTo>
                  <a:pt x="0" y="0"/>
                </a:moveTo>
                <a:lnTo>
                  <a:pt x="36560" y="0"/>
                </a:lnTo>
                <a:lnTo>
                  <a:pt x="36560" y="21600"/>
                </a:lnTo>
                <a:lnTo>
                  <a:pt x="0" y="21600"/>
                </a:lnTo>
                <a:close/>
              </a:path>
              <a:path fill="lightenLess" w="36560" h="21600">
                <a:moveTo>
                  <a:pt x="0" y="0"/>
                </a:moveTo>
                <a:lnTo>
                  <a:pt x="36560" y="0"/>
                </a:lnTo>
                <a:lnTo>
                  <a:pt x="35160" y="1400"/>
                </a:lnTo>
                <a:lnTo>
                  <a:pt x="1400" y="1400"/>
                </a:lnTo>
                <a:close/>
              </a:path>
              <a:path fill="darken" w="36560" h="21600">
                <a:moveTo>
                  <a:pt x="36560" y="0"/>
                </a:moveTo>
                <a:lnTo>
                  <a:pt x="36560" y="21600"/>
                </a:lnTo>
                <a:lnTo>
                  <a:pt x="35160" y="20200"/>
                </a:lnTo>
                <a:lnTo>
                  <a:pt x="35160" y="1400"/>
                </a:lnTo>
                <a:close/>
              </a:path>
              <a:path fill="darkenLess" w="36560" h="21600">
                <a:moveTo>
                  <a:pt x="36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0" y="20200"/>
                </a:lnTo>
                <a:close/>
              </a:path>
              <a:path fill="lighten" w="36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18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5">
            <a:hlinkClick r:id="rId19" action="ppaction://hlinksldjump"/>
          </p:cNvPr>
          <p:cNvSpPr/>
          <p:nvPr/>
        </p:nvSpPr>
        <p:spPr>
          <a:xfrm>
            <a:off x="3809880" y="26668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20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6">
            <a:hlinkClick r:id="rId22" action="ppaction://hlinksldjump"/>
          </p:cNvPr>
          <p:cNvSpPr/>
          <p:nvPr/>
        </p:nvSpPr>
        <p:spPr>
          <a:xfrm>
            <a:off x="3809880" y="160020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24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7">
            <a:hlinkClick r:id="rId25" action="ppaction://hlinksldjump"/>
          </p:cNvPr>
          <p:cNvSpPr/>
          <p:nvPr/>
        </p:nvSpPr>
        <p:spPr>
          <a:xfrm>
            <a:off x="5638680" y="58672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26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27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8">
            <a:hlinkClick r:id="rId28" action="ppaction://hlinksldjump"/>
          </p:cNvPr>
          <p:cNvSpPr/>
          <p:nvPr/>
        </p:nvSpPr>
        <p:spPr>
          <a:xfrm>
            <a:off x="5638680" y="480060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29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30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9">
            <a:hlinkClick r:id="rId31" action="ppaction://hlinksldjump"/>
          </p:cNvPr>
          <p:cNvSpPr/>
          <p:nvPr/>
        </p:nvSpPr>
        <p:spPr>
          <a:xfrm>
            <a:off x="5638680" y="3733920"/>
            <a:ext cx="1676520" cy="99036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60" h="21600">
                <a:moveTo>
                  <a:pt x="0" y="0"/>
                </a:moveTo>
                <a:lnTo>
                  <a:pt x="36560" y="0"/>
                </a:lnTo>
                <a:lnTo>
                  <a:pt x="36560" y="21600"/>
                </a:lnTo>
                <a:lnTo>
                  <a:pt x="0" y="21600"/>
                </a:lnTo>
                <a:close/>
              </a:path>
              <a:path fill="lightenLess" w="36560" h="21600">
                <a:moveTo>
                  <a:pt x="0" y="0"/>
                </a:moveTo>
                <a:lnTo>
                  <a:pt x="36560" y="0"/>
                </a:lnTo>
                <a:lnTo>
                  <a:pt x="35160" y="1400"/>
                </a:lnTo>
                <a:lnTo>
                  <a:pt x="1400" y="1400"/>
                </a:lnTo>
                <a:close/>
              </a:path>
              <a:path fill="darken" w="36560" h="21600">
                <a:moveTo>
                  <a:pt x="36560" y="0"/>
                </a:moveTo>
                <a:lnTo>
                  <a:pt x="36560" y="21600"/>
                </a:lnTo>
                <a:lnTo>
                  <a:pt x="35160" y="20200"/>
                </a:lnTo>
                <a:lnTo>
                  <a:pt x="35160" y="1400"/>
                </a:lnTo>
                <a:close/>
              </a:path>
              <a:path fill="darkenLess" w="36560" h="21600">
                <a:moveTo>
                  <a:pt x="36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0" y="20200"/>
                </a:lnTo>
                <a:close/>
              </a:path>
              <a:path fill="lighten" w="36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32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33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0">
            <a:hlinkClick r:id="rId34" action="ppaction://hlinksldjump"/>
          </p:cNvPr>
          <p:cNvSpPr/>
          <p:nvPr/>
        </p:nvSpPr>
        <p:spPr>
          <a:xfrm>
            <a:off x="5638680" y="26668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35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36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1">
            <a:hlinkClick r:id="rId37" action="ppaction://hlinksldjump"/>
          </p:cNvPr>
          <p:cNvSpPr/>
          <p:nvPr/>
        </p:nvSpPr>
        <p:spPr>
          <a:xfrm>
            <a:off x="5638680" y="160020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38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39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2">
            <a:hlinkClick r:id="rId40" action="ppaction://hlinksldjump"/>
          </p:cNvPr>
          <p:cNvSpPr/>
          <p:nvPr/>
        </p:nvSpPr>
        <p:spPr>
          <a:xfrm>
            <a:off x="7467480" y="58672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41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42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3">
            <a:hlinkClick r:id="rId43" action="ppaction://hlinksldjump"/>
          </p:cNvPr>
          <p:cNvSpPr/>
          <p:nvPr/>
        </p:nvSpPr>
        <p:spPr>
          <a:xfrm>
            <a:off x="7467480" y="480060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44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45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4">
            <a:hlinkClick r:id="rId46" action="ppaction://hlinksldjump"/>
          </p:cNvPr>
          <p:cNvSpPr/>
          <p:nvPr/>
        </p:nvSpPr>
        <p:spPr>
          <a:xfrm>
            <a:off x="7467480" y="3733920"/>
            <a:ext cx="1676520" cy="99036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60" h="21600">
                <a:moveTo>
                  <a:pt x="0" y="0"/>
                </a:moveTo>
                <a:lnTo>
                  <a:pt x="36560" y="0"/>
                </a:lnTo>
                <a:lnTo>
                  <a:pt x="36560" y="21600"/>
                </a:lnTo>
                <a:lnTo>
                  <a:pt x="0" y="21600"/>
                </a:lnTo>
                <a:close/>
              </a:path>
              <a:path fill="lightenLess" w="36560" h="21600">
                <a:moveTo>
                  <a:pt x="0" y="0"/>
                </a:moveTo>
                <a:lnTo>
                  <a:pt x="36560" y="0"/>
                </a:lnTo>
                <a:lnTo>
                  <a:pt x="35160" y="1400"/>
                </a:lnTo>
                <a:lnTo>
                  <a:pt x="1400" y="1400"/>
                </a:lnTo>
                <a:close/>
              </a:path>
              <a:path fill="darken" w="36560" h="21600">
                <a:moveTo>
                  <a:pt x="36560" y="0"/>
                </a:moveTo>
                <a:lnTo>
                  <a:pt x="36560" y="21600"/>
                </a:lnTo>
                <a:lnTo>
                  <a:pt x="35160" y="20200"/>
                </a:lnTo>
                <a:lnTo>
                  <a:pt x="35160" y="1400"/>
                </a:lnTo>
                <a:close/>
              </a:path>
              <a:path fill="darkenLess" w="36560" h="21600">
                <a:moveTo>
                  <a:pt x="36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0" y="20200"/>
                </a:lnTo>
                <a:close/>
              </a:path>
              <a:path fill="lighten" w="36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47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48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5">
            <a:hlinkClick r:id="rId49" action="ppaction://hlinksldjump"/>
          </p:cNvPr>
          <p:cNvSpPr/>
          <p:nvPr/>
        </p:nvSpPr>
        <p:spPr>
          <a:xfrm>
            <a:off x="7467480" y="26668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50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51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6">
            <a:hlinkClick r:id="rId52" action="ppaction://hlinksldjump"/>
          </p:cNvPr>
          <p:cNvSpPr/>
          <p:nvPr/>
        </p:nvSpPr>
        <p:spPr>
          <a:xfrm>
            <a:off x="7467480" y="160020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53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54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7">
            <a:hlinkClick r:id="rId55" action="ppaction://hlinksldjump"/>
          </p:cNvPr>
          <p:cNvSpPr/>
          <p:nvPr/>
        </p:nvSpPr>
        <p:spPr>
          <a:xfrm>
            <a:off x="1905120" y="1600200"/>
            <a:ext cx="1676160" cy="990720"/>
          </a:xfrm>
          <a:custGeom>
            <a:avLst/>
            <a:gdLst>
              <a:gd name="textAreaLeft" fmla="*/ 64080 w 1676160"/>
              <a:gd name="textAreaRight" fmla="*/ 1612080 w 16761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39" h="21600">
                <a:moveTo>
                  <a:pt x="0" y="0"/>
                </a:moveTo>
                <a:lnTo>
                  <a:pt x="36539" y="0"/>
                </a:lnTo>
                <a:lnTo>
                  <a:pt x="36539" y="21600"/>
                </a:lnTo>
                <a:lnTo>
                  <a:pt x="0" y="21600"/>
                </a:lnTo>
                <a:close/>
              </a:path>
              <a:path fill="lightenLess" w="36539" h="21600">
                <a:moveTo>
                  <a:pt x="0" y="0"/>
                </a:moveTo>
                <a:lnTo>
                  <a:pt x="36539" y="0"/>
                </a:lnTo>
                <a:lnTo>
                  <a:pt x="35139" y="1400"/>
                </a:lnTo>
                <a:lnTo>
                  <a:pt x="1400" y="1400"/>
                </a:lnTo>
                <a:close/>
              </a:path>
              <a:path fill="darken" w="36539" h="21600">
                <a:moveTo>
                  <a:pt x="36539" y="0"/>
                </a:moveTo>
                <a:lnTo>
                  <a:pt x="36539" y="21600"/>
                </a:lnTo>
                <a:lnTo>
                  <a:pt x="35139" y="20200"/>
                </a:lnTo>
                <a:lnTo>
                  <a:pt x="35139" y="1400"/>
                </a:lnTo>
                <a:close/>
              </a:path>
              <a:path fill="darkenLess" w="36539" h="21600">
                <a:moveTo>
                  <a:pt x="36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39" y="20200"/>
                </a:lnTo>
                <a:close/>
              </a:path>
              <a:path fill="lighten" w="36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56" action="ppaction://hlinksldjump"/>
              </a:rPr>
              <a:t>$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8">
            <a:hlinkClick r:id="rId57" action="ppaction://hlinksldjump"/>
          </p:cNvPr>
          <p:cNvSpPr/>
          <p:nvPr/>
        </p:nvSpPr>
        <p:spPr>
          <a:xfrm>
            <a:off x="1905120" y="2666880"/>
            <a:ext cx="1676160" cy="990720"/>
          </a:xfrm>
          <a:custGeom>
            <a:avLst/>
            <a:gdLst>
              <a:gd name="textAreaLeft" fmla="*/ 64080 w 1676160"/>
              <a:gd name="textAreaRight" fmla="*/ 1612080 w 16761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39" h="21600">
                <a:moveTo>
                  <a:pt x="0" y="0"/>
                </a:moveTo>
                <a:lnTo>
                  <a:pt x="36539" y="0"/>
                </a:lnTo>
                <a:lnTo>
                  <a:pt x="36539" y="21600"/>
                </a:lnTo>
                <a:lnTo>
                  <a:pt x="0" y="21600"/>
                </a:lnTo>
                <a:close/>
              </a:path>
              <a:path fill="lightenLess" w="36539" h="21600">
                <a:moveTo>
                  <a:pt x="0" y="0"/>
                </a:moveTo>
                <a:lnTo>
                  <a:pt x="36539" y="0"/>
                </a:lnTo>
                <a:lnTo>
                  <a:pt x="35139" y="1400"/>
                </a:lnTo>
                <a:lnTo>
                  <a:pt x="1400" y="1400"/>
                </a:lnTo>
                <a:close/>
              </a:path>
              <a:path fill="darken" w="36539" h="21600">
                <a:moveTo>
                  <a:pt x="36539" y="0"/>
                </a:moveTo>
                <a:lnTo>
                  <a:pt x="36539" y="21600"/>
                </a:lnTo>
                <a:lnTo>
                  <a:pt x="35139" y="20200"/>
                </a:lnTo>
                <a:lnTo>
                  <a:pt x="35139" y="1400"/>
                </a:lnTo>
                <a:close/>
              </a:path>
              <a:path fill="darkenLess" w="36539" h="21600">
                <a:moveTo>
                  <a:pt x="36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39" y="20200"/>
                </a:lnTo>
                <a:close/>
              </a:path>
              <a:path fill="lighten" w="36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58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59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9">
            <a:hlinkClick r:id="rId60" action="ppaction://hlinksldjump"/>
          </p:cNvPr>
          <p:cNvSpPr/>
          <p:nvPr/>
        </p:nvSpPr>
        <p:spPr>
          <a:xfrm>
            <a:off x="1905120" y="4800600"/>
            <a:ext cx="1676160" cy="990720"/>
          </a:xfrm>
          <a:custGeom>
            <a:avLst/>
            <a:gdLst>
              <a:gd name="textAreaLeft" fmla="*/ 64080 w 1676160"/>
              <a:gd name="textAreaRight" fmla="*/ 1612080 w 16761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39" h="21600">
                <a:moveTo>
                  <a:pt x="0" y="0"/>
                </a:moveTo>
                <a:lnTo>
                  <a:pt x="36539" y="0"/>
                </a:lnTo>
                <a:lnTo>
                  <a:pt x="36539" y="21600"/>
                </a:lnTo>
                <a:lnTo>
                  <a:pt x="0" y="21600"/>
                </a:lnTo>
                <a:close/>
              </a:path>
              <a:path fill="lightenLess" w="36539" h="21600">
                <a:moveTo>
                  <a:pt x="0" y="0"/>
                </a:moveTo>
                <a:lnTo>
                  <a:pt x="36539" y="0"/>
                </a:lnTo>
                <a:lnTo>
                  <a:pt x="35139" y="1400"/>
                </a:lnTo>
                <a:lnTo>
                  <a:pt x="1400" y="1400"/>
                </a:lnTo>
                <a:close/>
              </a:path>
              <a:path fill="darken" w="36539" h="21600">
                <a:moveTo>
                  <a:pt x="36539" y="0"/>
                </a:moveTo>
                <a:lnTo>
                  <a:pt x="36539" y="21600"/>
                </a:lnTo>
                <a:lnTo>
                  <a:pt x="35139" y="20200"/>
                </a:lnTo>
                <a:lnTo>
                  <a:pt x="35139" y="1400"/>
                </a:lnTo>
                <a:close/>
              </a:path>
              <a:path fill="darkenLess" w="36539" h="21600">
                <a:moveTo>
                  <a:pt x="36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39" y="20200"/>
                </a:lnTo>
                <a:close/>
              </a:path>
              <a:path fill="lighten" w="36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61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62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0">
            <a:hlinkClick r:id="rId63" action="ppaction://hlinksldjump"/>
          </p:cNvPr>
          <p:cNvSpPr/>
          <p:nvPr/>
        </p:nvSpPr>
        <p:spPr>
          <a:xfrm>
            <a:off x="1905120" y="5867280"/>
            <a:ext cx="1676160" cy="990720"/>
          </a:xfrm>
          <a:custGeom>
            <a:avLst/>
            <a:gdLst>
              <a:gd name="textAreaLeft" fmla="*/ 64080 w 1676160"/>
              <a:gd name="textAreaRight" fmla="*/ 1612080 w 16761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39" h="21600">
                <a:moveTo>
                  <a:pt x="0" y="0"/>
                </a:moveTo>
                <a:lnTo>
                  <a:pt x="36539" y="0"/>
                </a:lnTo>
                <a:lnTo>
                  <a:pt x="36539" y="21600"/>
                </a:lnTo>
                <a:lnTo>
                  <a:pt x="0" y="21600"/>
                </a:lnTo>
                <a:close/>
              </a:path>
              <a:path fill="lightenLess" w="36539" h="21600">
                <a:moveTo>
                  <a:pt x="0" y="0"/>
                </a:moveTo>
                <a:lnTo>
                  <a:pt x="36539" y="0"/>
                </a:lnTo>
                <a:lnTo>
                  <a:pt x="35139" y="1400"/>
                </a:lnTo>
                <a:lnTo>
                  <a:pt x="1400" y="1400"/>
                </a:lnTo>
                <a:close/>
              </a:path>
              <a:path fill="darken" w="36539" h="21600">
                <a:moveTo>
                  <a:pt x="36539" y="0"/>
                </a:moveTo>
                <a:lnTo>
                  <a:pt x="36539" y="21600"/>
                </a:lnTo>
                <a:lnTo>
                  <a:pt x="35139" y="20200"/>
                </a:lnTo>
                <a:lnTo>
                  <a:pt x="35139" y="1400"/>
                </a:lnTo>
                <a:close/>
              </a:path>
              <a:path fill="darkenLess" w="36539" h="21600">
                <a:moveTo>
                  <a:pt x="36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39" y="20200"/>
                </a:lnTo>
                <a:close/>
              </a:path>
              <a:path fill="lighten" w="36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64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65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1">
            <a:hlinkClick r:id="rId66" action="ppaction://hlinksldjump"/>
          </p:cNvPr>
          <p:cNvSpPr/>
          <p:nvPr/>
        </p:nvSpPr>
        <p:spPr>
          <a:xfrm>
            <a:off x="3809880" y="586728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67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68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2">
            <a:hlinkClick r:id="rId69" action="ppaction://hlinksldjump"/>
          </p:cNvPr>
          <p:cNvSpPr/>
          <p:nvPr/>
        </p:nvSpPr>
        <p:spPr>
          <a:xfrm>
            <a:off x="3809880" y="4800600"/>
            <a:ext cx="1676520" cy="990720"/>
          </a:xfrm>
          <a:custGeom>
            <a:avLst/>
            <a:gdLst>
              <a:gd name="textAreaLeft" fmla="*/ 64080 w 1676520"/>
              <a:gd name="textAreaRight" fmla="*/ 1612440 w 16765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70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71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3">
            <a:hlinkClick r:id="rId72" action="ppaction://hlinksldjump"/>
          </p:cNvPr>
          <p:cNvSpPr/>
          <p:nvPr/>
        </p:nvSpPr>
        <p:spPr>
          <a:xfrm>
            <a:off x="1905120" y="3733920"/>
            <a:ext cx="1676160" cy="990360"/>
          </a:xfrm>
          <a:custGeom>
            <a:avLst/>
            <a:gdLst>
              <a:gd name="textAreaLeft" fmla="*/ 64080 w 1676160"/>
              <a:gd name="textAreaRight" fmla="*/ 1612080 w 16761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6552" h="21600">
                <a:moveTo>
                  <a:pt x="0" y="0"/>
                </a:moveTo>
                <a:lnTo>
                  <a:pt x="36552" y="0"/>
                </a:lnTo>
                <a:lnTo>
                  <a:pt x="36552" y="21600"/>
                </a:lnTo>
                <a:lnTo>
                  <a:pt x="0" y="21600"/>
                </a:lnTo>
                <a:close/>
              </a:path>
              <a:path fill="lightenLess" w="36552" h="21600">
                <a:moveTo>
                  <a:pt x="0" y="0"/>
                </a:moveTo>
                <a:lnTo>
                  <a:pt x="36552" y="0"/>
                </a:lnTo>
                <a:lnTo>
                  <a:pt x="35152" y="1400"/>
                </a:lnTo>
                <a:lnTo>
                  <a:pt x="1400" y="1400"/>
                </a:lnTo>
                <a:close/>
              </a:path>
              <a:path fill="darken" w="36552" h="21600">
                <a:moveTo>
                  <a:pt x="36552" y="0"/>
                </a:moveTo>
                <a:lnTo>
                  <a:pt x="36552" y="21600"/>
                </a:lnTo>
                <a:lnTo>
                  <a:pt x="35152" y="20200"/>
                </a:lnTo>
                <a:lnTo>
                  <a:pt x="35152" y="1400"/>
                </a:lnTo>
                <a:close/>
              </a:path>
              <a:path fill="darkenLess" w="36552" h="21600">
                <a:moveTo>
                  <a:pt x="36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52" y="20200"/>
                </a:lnTo>
                <a:close/>
              </a:path>
              <a:path fill="lighten" w="36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73" action="ppaction://hlinksldjump"/>
              </a:rPr>
              <a:t>$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74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5">
            <a:hlinkClick r:id="rId75" action="ppaction://hlinksldjump"/>
          </p:cNvPr>
          <p:cNvSpPr/>
          <p:nvPr/>
        </p:nvSpPr>
        <p:spPr>
          <a:xfrm>
            <a:off x="8534520" y="10666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eopard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Electricit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66"/>
                </a:solidFill>
                <a:latin typeface="Arial"/>
              </a:rPr>
              <a:t>The circuit is open.</a:t>
            </a:r>
            <a:endParaRPr b="0" lang="en-US" sz="9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6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4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Electricity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A 9 volt battery has two posts on top. One post is marked with a plus sign. The other post is marked with a negative sign. What do you know about the flow of electrons out of the posts?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0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700" spc="-1" strike="noStrike">
                <a:solidFill>
                  <a:srgbClr val="ffff66"/>
                </a:solidFill>
                <a:latin typeface="Arial"/>
              </a:rPr>
              <a:t>Electricity</a:t>
            </a:r>
            <a:endParaRPr b="0" lang="en-US" sz="107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66"/>
                </a:solidFill>
                <a:latin typeface="Arial"/>
              </a:rPr>
              <a:t>Answer: Electrons flow into one post and out of the other post</a:t>
            </a:r>
            <a:endParaRPr b="0" lang="en-US" sz="75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5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Light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Arial"/>
              </a:rPr>
              <a:t>Light that hits a reflective surface reflects how?</a:t>
            </a:r>
            <a:endParaRPr b="0" lang="en-US" sz="7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Light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Answer: At the same angle, but in the opposite direction.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4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Light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66"/>
                </a:solidFill>
                <a:latin typeface="Arial"/>
              </a:rPr>
              <a:t>When light passes through a prism, what happens to the light?</a:t>
            </a:r>
            <a:endParaRPr b="0" lang="en-US" sz="6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Light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Answer: It is separated into red, orange, yellow, green, blue, indigo, violet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Light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Light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baseline="30000">
                <a:solidFill>
                  <a:srgbClr val="ffff66"/>
                </a:solidFill>
                <a:latin typeface="Arial"/>
              </a:rPr>
              <a:t>What does opaque mean?</a:t>
            </a:r>
            <a:endParaRPr b="0" lang="en-US" sz="8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3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Light 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Light can not pass through it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3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Electricit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66"/>
                </a:solidFill>
                <a:latin typeface="Arial"/>
              </a:rPr>
              <a:t>When all the connections are made between the battery  and the bulb, the bulb lights. It takes energy to light the bulb. Where does this energy come from?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" name="AutoShape 7">
            <a:hlinkClick r:id="" action="ppaction://hlinkshowjump?jump=nextslide"/>
          </p:cNvPr>
          <p:cNvSpPr/>
          <p:nvPr/>
        </p:nvSpPr>
        <p:spPr>
          <a:xfrm>
            <a:off x="7696080" y="5562720"/>
            <a:ext cx="1462320" cy="1279440"/>
          </a:xfrm>
          <a:custGeom>
            <a:avLst/>
            <a:gdLst>
              <a:gd name="textAreaLeft" fmla="*/ 82800 w 1462320"/>
              <a:gd name="textAreaRight" fmla="*/ 1379520 w 146232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7" h="21600">
                <a:moveTo>
                  <a:pt x="0" y="0"/>
                </a:moveTo>
                <a:lnTo>
                  <a:pt x="24687" y="0"/>
                </a:lnTo>
                <a:lnTo>
                  <a:pt x="24687" y="21600"/>
                </a:lnTo>
                <a:lnTo>
                  <a:pt x="0" y="21600"/>
                </a:lnTo>
                <a:close/>
              </a:path>
              <a:path fill="lightenLess" w="24687" h="21600">
                <a:moveTo>
                  <a:pt x="0" y="0"/>
                </a:moveTo>
                <a:lnTo>
                  <a:pt x="24687" y="0"/>
                </a:lnTo>
                <a:lnTo>
                  <a:pt x="23287" y="1400"/>
                </a:lnTo>
                <a:lnTo>
                  <a:pt x="1400" y="1400"/>
                </a:lnTo>
                <a:close/>
              </a:path>
              <a:path fill="darken" w="24687" h="21600">
                <a:moveTo>
                  <a:pt x="24687" y="0"/>
                </a:moveTo>
                <a:lnTo>
                  <a:pt x="24687" y="21600"/>
                </a:lnTo>
                <a:lnTo>
                  <a:pt x="23287" y="20200"/>
                </a:lnTo>
                <a:lnTo>
                  <a:pt x="23287" y="1400"/>
                </a:lnTo>
                <a:close/>
              </a:path>
              <a:path fill="darkenLess" w="24687" h="21600">
                <a:moveTo>
                  <a:pt x="24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7" y="20200"/>
                </a:lnTo>
                <a:close/>
              </a:path>
              <a:path fill="lighten" w="24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7" h="21600">
                <a:moveTo>
                  <a:pt x="1234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7" h="21600">
                <a:moveTo>
                  <a:pt x="13449" y="14281"/>
                </a:moveTo>
                <a:lnTo>
                  <a:pt x="13449" y="12323"/>
                </a:lnTo>
                <a:cubicBezTo>
                  <a:pt x="13449" y="11496"/>
                  <a:pt x="13779" y="10800"/>
                  <a:pt x="14380" y="10800"/>
                </a:cubicBezTo>
                <a:cubicBezTo>
                  <a:pt x="15511" y="10800"/>
                  <a:pt x="16408" y="9434"/>
                  <a:pt x="16408" y="7849"/>
                </a:cubicBezTo>
                <a:cubicBezTo>
                  <a:pt x="16408" y="5534"/>
                  <a:pt x="14554" y="3794"/>
                  <a:pt x="12343" y="3794"/>
                </a:cubicBezTo>
                <a:cubicBezTo>
                  <a:pt x="10133" y="3794"/>
                  <a:pt x="8461" y="5534"/>
                  <a:pt x="8461" y="7849"/>
                </a:cubicBezTo>
                <a:lnTo>
                  <a:pt x="10315" y="7849"/>
                </a:lnTo>
                <a:cubicBezTo>
                  <a:pt x="10315" y="6709"/>
                  <a:pt x="11238" y="5821"/>
                  <a:pt x="12343" y="5821"/>
                </a:cubicBezTo>
                <a:cubicBezTo>
                  <a:pt x="13449" y="5821"/>
                  <a:pt x="14380" y="6709"/>
                  <a:pt x="14380" y="7849"/>
                </a:cubicBezTo>
                <a:cubicBezTo>
                  <a:pt x="14380" y="8589"/>
                  <a:pt x="13910" y="9320"/>
                  <a:pt x="13449" y="9320"/>
                </a:cubicBezTo>
                <a:cubicBezTo>
                  <a:pt x="12343" y="9320"/>
                  <a:pt x="11238" y="10800"/>
                  <a:pt x="11238" y="12323"/>
                </a:cubicBezTo>
                <a:lnTo>
                  <a:pt x="11238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>
            <a:hlinkClick r:id="" action="ppaction://hlinkshowjump?jump=firstslide"/>
          </p:cNvPr>
          <p:cNvSpPr/>
          <p:nvPr/>
        </p:nvSpPr>
        <p:spPr>
          <a:xfrm>
            <a:off x="617220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Light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What does translucent mean?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4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Light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Answer: Some light may pass through it.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4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Light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What does transparent mean?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Light 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ial"/>
              </a:rPr>
              <a:t>Answer: That All light can pass through it.</a:t>
            </a:r>
            <a:endParaRPr b="0" lang="en-US" sz="6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Sound 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66"/>
                </a:solidFill>
                <a:latin typeface="Arial"/>
              </a:rPr>
              <a:t>Sound energy can not travel through </a:t>
            </a:r>
            <a:endParaRPr b="0" lang="en-US" sz="7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Sound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Answer:    A vacuum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Sound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66"/>
                </a:solidFill>
                <a:latin typeface="Arial"/>
              </a:rPr>
              <a:t>A sound is more condensed when it is </a:t>
            </a:r>
            <a:endParaRPr b="0" lang="en-US" sz="8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Sound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Answer: Closer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Sound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A salt lick is placed in the field. No deer have been in the field, but the salt lick is smaller. Why?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3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Sound  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The rain causes particles of the salt lick to disappear.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2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3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Electricit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Answer: The energy comes from the battery.  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Sound 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A force in the same direction as a motion will affect speed by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6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4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Sound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Answer: Increasing it.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1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4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Sound 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What causes the piano to move up the ramp?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5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Sound 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Force is applied by pushing the piano up the ramp.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0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Thermal Energ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Arial"/>
              </a:rPr>
              <a:t>Friction causes things to go </a:t>
            </a:r>
            <a:endParaRPr b="0" lang="en-US" sz="7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4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Thermal Energ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28880" indent="0">
              <a:spcBef>
                <a:spcPts val="17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66"/>
                </a:solidFill>
                <a:latin typeface="Arial"/>
              </a:rPr>
              <a:t>Answer: Slower</a:t>
            </a:r>
            <a:endParaRPr b="0" lang="en-US" sz="7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Thermal Energ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When someone tosses a ball into the air, what causes the ball to come back down?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3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Thermal Energ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Gravity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Thermal Energ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28880" indent="-1028880">
              <a:spcBef>
                <a:spcPts val="1349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Thermal means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3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Thermal Energ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2888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Answer: He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7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3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Electricit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What can block the flow of a current through a circuit?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Thermal Energ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hen you put butter on hot toast what can you say about the temperature of the toast?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1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4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Thermal Energ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4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ff66"/>
                </a:solidFill>
                <a:latin typeface="Arial"/>
              </a:rPr>
              <a:t>Answer: The temperature of the toast was at the melting point of butter or higher.</a:t>
            </a:r>
            <a:endParaRPr b="0" lang="en-US" sz="59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6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4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Thermal Energ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How does the mass of the solid candy compare to the mass of the liquid candy in the candy mold?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0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Thermal Energ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28880" indent="0"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Answer: The mass of the solid candy is greater than than the mass of the liquid candy.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5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Myster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List the three states of matter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9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Myster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ial"/>
              </a:rPr>
              <a:t>What is Gas, liquid and solid?</a:t>
            </a:r>
            <a:endParaRPr b="0" lang="en-US" sz="6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4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Myster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What instrument measures temperature?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8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Myster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Answer:  Thermometer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3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Myster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66"/>
                </a:solidFill>
                <a:latin typeface="Arial"/>
              </a:rPr>
              <a:t>When you start an experiment in which you need to time something, what should the stopwatch read when you start the experiment?</a:t>
            </a:r>
            <a:endParaRPr b="0" lang="en-US" sz="5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7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3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Myster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Answer: 0:00 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2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3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Electricit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Answer: What is an insulator?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Myster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When working with electricity, you should avoid contact with…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6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4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Myster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Answer: Water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1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4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Myster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A hockey puck travels faster over ice than it does over concrete because the ice provides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5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Myster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Arial"/>
              </a:rPr>
              <a:t>Answer:  Less friction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Electricit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The material on the outside of the toaster does not get hot, it is 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3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Electricity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"/>
              </a:rPr>
              <a:t>Answer:  An insulator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AutoShape 4">
            <a:hlinkClick r:id="" action="ppaction://hlinkshowjump?jump=firs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3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219320" y="838080"/>
            <a:ext cx="861048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Dou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07" name="AutoShape 5">
            <a:hlinkClick r:id="" action="ppaction://hlinkshowjump?jump=nextslide"/>
          </p:cNvPr>
          <p:cNvSpPr/>
          <p:nvPr/>
        </p:nvSpPr>
        <p:spPr>
          <a:xfrm>
            <a:off x="8001000" y="5791320"/>
            <a:ext cx="1143000" cy="1066680"/>
          </a:xfrm>
          <a:custGeom>
            <a:avLst/>
            <a:gdLst>
              <a:gd name="textAreaLeft" fmla="*/ 69120 w 1143000"/>
              <a:gd name="textAreaRight" fmla="*/ 1073880 w 1143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3145" h="21600">
                <a:moveTo>
                  <a:pt x="0" y="0"/>
                </a:moveTo>
                <a:lnTo>
                  <a:pt x="23145" y="0"/>
                </a:lnTo>
                <a:lnTo>
                  <a:pt x="23145" y="21600"/>
                </a:lnTo>
                <a:lnTo>
                  <a:pt x="0" y="21600"/>
                </a:lnTo>
                <a:close/>
              </a:path>
              <a:path fill="lightenLess" w="23145" h="21600">
                <a:moveTo>
                  <a:pt x="0" y="0"/>
                </a:moveTo>
                <a:lnTo>
                  <a:pt x="23145" y="0"/>
                </a:lnTo>
                <a:lnTo>
                  <a:pt x="21745" y="1400"/>
                </a:lnTo>
                <a:lnTo>
                  <a:pt x="1400" y="1400"/>
                </a:lnTo>
                <a:close/>
              </a:path>
              <a:path fill="darken" w="23145" h="21600">
                <a:moveTo>
                  <a:pt x="23145" y="0"/>
                </a:moveTo>
                <a:lnTo>
                  <a:pt x="23145" y="21600"/>
                </a:lnTo>
                <a:lnTo>
                  <a:pt x="21745" y="20200"/>
                </a:lnTo>
                <a:lnTo>
                  <a:pt x="21745" y="1400"/>
                </a:lnTo>
                <a:close/>
              </a:path>
              <a:path fill="darkenLess" w="23145" h="21600">
                <a:moveTo>
                  <a:pt x="23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45" y="20200"/>
                </a:lnTo>
                <a:close/>
              </a:path>
              <a:path fill="lighten" w="23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45" h="21600">
                <a:moveTo>
                  <a:pt x="4566" y="3794"/>
                </a:moveTo>
                <a:lnTo>
                  <a:pt x="18579" y="10800"/>
                </a:lnTo>
                <a:lnTo>
                  <a:pt x="4566" y="17806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Electricity 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hen the lamp switch is off, there is no light. What do you know about the circuit?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AutoShape 5">
            <a:hlinkClick r:id="" action="ppaction://hlinkshowjump?jump=nextslide"/>
          </p:cNvPr>
          <p:cNvSpPr/>
          <p:nvPr/>
        </p:nvSpPr>
        <p:spPr>
          <a:xfrm>
            <a:off x="7682040" y="557856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1" h="21600">
                <a:moveTo>
                  <a:pt x="13446" y="14281"/>
                </a:moveTo>
                <a:lnTo>
                  <a:pt x="13446" y="12323"/>
                </a:lnTo>
                <a:cubicBezTo>
                  <a:pt x="13446" y="11496"/>
                  <a:pt x="13776" y="10800"/>
                  <a:pt x="14377" y="10800"/>
                </a:cubicBezTo>
                <a:cubicBezTo>
                  <a:pt x="15508" y="10800"/>
                  <a:pt x="16405" y="9434"/>
                  <a:pt x="16405" y="7849"/>
                </a:cubicBezTo>
                <a:cubicBezTo>
                  <a:pt x="16405" y="5534"/>
                  <a:pt x="14551" y="3794"/>
                  <a:pt x="12340" y="3794"/>
                </a:cubicBezTo>
                <a:cubicBezTo>
                  <a:pt x="10130" y="3794"/>
                  <a:pt x="8458" y="5534"/>
                  <a:pt x="8458" y="7849"/>
                </a:cubicBezTo>
                <a:lnTo>
                  <a:pt x="10312" y="7849"/>
                </a:lnTo>
                <a:cubicBezTo>
                  <a:pt x="10312" y="6709"/>
                  <a:pt x="11235" y="5821"/>
                  <a:pt x="12340" y="5821"/>
                </a:cubicBezTo>
                <a:cubicBezTo>
                  <a:pt x="13446" y="5821"/>
                  <a:pt x="14377" y="6709"/>
                  <a:pt x="14377" y="7849"/>
                </a:cubicBezTo>
                <a:cubicBezTo>
                  <a:pt x="14377" y="8589"/>
                  <a:pt x="13907" y="9320"/>
                  <a:pt x="13446" y="9320"/>
                </a:cubicBezTo>
                <a:cubicBezTo>
                  <a:pt x="12340" y="9320"/>
                  <a:pt x="11235" y="10800"/>
                  <a:pt x="11235" y="12323"/>
                </a:cubicBezTo>
                <a:lnTo>
                  <a:pt x="11235" y="14281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04920" y="58672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$4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">
            <a:hlinkClick r:id="" action="ppaction://hlinkshowjump?jump=firstslide"/>
          </p:cNvPr>
          <p:cNvSpPr/>
          <p:nvPr/>
        </p:nvSpPr>
        <p:spPr>
          <a:xfrm>
            <a:off x="6172200" y="5570640"/>
            <a:ext cx="1461960" cy="1279440"/>
          </a:xfrm>
          <a:custGeom>
            <a:avLst/>
            <a:gdLst>
              <a:gd name="textAreaLeft" fmla="*/ 82800 w 1461960"/>
              <a:gd name="textAreaRight" fmla="*/ 1379160 w 1461960"/>
              <a:gd name="textAreaTop" fmla="*/ 82800 h 1279440"/>
              <a:gd name="textAreaBottom" fmla="*/ 1196640 h 1279440"/>
            </a:gdLst>
            <a:ahLst/>
            <a:rect l="textAreaLeft" t="textAreaTop" r="textAreaRight" b="textAreaBottom"/>
            <a:pathLst>
              <a:path w="24681" h="21600">
                <a:moveTo>
                  <a:pt x="0" y="0"/>
                </a:moveTo>
                <a:lnTo>
                  <a:pt x="24681" y="0"/>
                </a:lnTo>
                <a:lnTo>
                  <a:pt x="24681" y="21600"/>
                </a:lnTo>
                <a:lnTo>
                  <a:pt x="0" y="21600"/>
                </a:lnTo>
                <a:close/>
              </a:path>
              <a:path fill="lightenLess" w="24681" h="21600">
                <a:moveTo>
                  <a:pt x="0" y="0"/>
                </a:moveTo>
                <a:lnTo>
                  <a:pt x="24681" y="0"/>
                </a:lnTo>
                <a:lnTo>
                  <a:pt x="23281" y="1400"/>
                </a:lnTo>
                <a:lnTo>
                  <a:pt x="1400" y="1400"/>
                </a:lnTo>
                <a:close/>
              </a:path>
              <a:path fill="darken" w="24681" h="21600">
                <a:moveTo>
                  <a:pt x="24681" y="0"/>
                </a:moveTo>
                <a:lnTo>
                  <a:pt x="24681" y="21600"/>
                </a:lnTo>
                <a:lnTo>
                  <a:pt x="23281" y="20200"/>
                </a:lnTo>
                <a:lnTo>
                  <a:pt x="23281" y="1400"/>
                </a:lnTo>
                <a:close/>
              </a:path>
              <a:path fill="darkenLess" w="24681" h="21600">
                <a:moveTo>
                  <a:pt x="24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1" y="20200"/>
                </a:lnTo>
                <a:close/>
              </a:path>
              <a:path fill="lighten" w="24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1" h="21600">
                <a:moveTo>
                  <a:pt x="12340" y="3837"/>
                </a:moveTo>
                <a:lnTo>
                  <a:pt x="14917" y="6448"/>
                </a:ln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lnTo>
                  <a:pt x="19303" y="10800"/>
                </a:lnTo>
                <a:lnTo>
                  <a:pt x="17650" y="10800"/>
                </a:lnTo>
                <a:lnTo>
                  <a:pt x="17650" y="17989"/>
                </a:lnTo>
                <a:lnTo>
                  <a:pt x="7031" y="17989"/>
                </a:lnTo>
                <a:lnTo>
                  <a:pt x="7031" y="10800"/>
                </a:lnTo>
                <a:lnTo>
                  <a:pt x="5377" y="10800"/>
                </a:lnTo>
                <a:close/>
              </a:path>
              <a:path fill="darkenLess" w="24681" h="21600">
                <a:moveTo>
                  <a:pt x="14917" y="6448"/>
                </a:moveTo>
                <a:lnTo>
                  <a:pt x="14917" y="4707"/>
                </a:lnTo>
                <a:lnTo>
                  <a:pt x="16692" y="4707"/>
                </a:lnTo>
                <a:lnTo>
                  <a:pt x="16692" y="8224"/>
                </a:lnTo>
                <a:close/>
              </a:path>
              <a:path fill="darkenLess" w="24681" h="21600">
                <a:moveTo>
                  <a:pt x="11418" y="14299"/>
                </a:moveTo>
                <a:lnTo>
                  <a:pt x="13263" y="14299"/>
                </a:lnTo>
                <a:lnTo>
                  <a:pt x="13263" y="17989"/>
                </a:lnTo>
                <a:lnTo>
                  <a:pt x="17650" y="17989"/>
                </a:lnTo>
                <a:lnTo>
                  <a:pt x="17650" y="10800"/>
                </a:lnTo>
                <a:lnTo>
                  <a:pt x="7031" y="10800"/>
                </a:lnTo>
                <a:lnTo>
                  <a:pt x="7031" y="17989"/>
                </a:lnTo>
                <a:lnTo>
                  <a:pt x="11418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23:18:24Z</dcterms:created>
  <dc:creator>JILL</dc:creator>
  <dc:description/>
  <dc:language>en-US</dc:language>
  <cp:lastModifiedBy>Stephanie McDonell</cp:lastModifiedBy>
  <dcterms:modified xsi:type="dcterms:W3CDTF">2012-02-13T01:25:42Z</dcterms:modified>
  <cp:revision>55</cp:revision>
  <dc:subject/>
  <dc:title>Slide 1</dc:title>
</cp:coreProperties>
</file>